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C6D-2030-4D96-96BD-43273D12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7939-BE3F-4CB3-86E5-2064EEF4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ABB3-06F5-4529-B6FB-228907EC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D6A3-B2AB-4CB8-BA18-5A153554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C3F-AA95-4A51-9D08-B049D098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898C-0872-4013-AB76-C83495FE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D3FE-49CF-4A63-93AC-9B408803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2CCC-5098-4580-982E-B076C715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3D70-79FF-4F54-9BF5-64073BBE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BCA8-D815-49B9-8609-69039C6F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151-2D0F-4CD3-9753-BB887FCD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613E-3FDB-4D09-99F7-C27B7887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FD48-C6B8-4B39-97E7-63549F9064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9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9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9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9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0040" y="1523880"/>
            <a:ext cx="6613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tiologic Fr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mo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he Expos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781680" y="5486400"/>
            <a:ext cx="167652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2438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716292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71629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2438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716292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14400" y="4114800"/>
            <a:ext cx="7162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2438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7162920" cy="685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162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620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01000" cy="5486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934320" y="5943600"/>
            <a:ext cx="16761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7467480" cy="1143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467480" cy="2438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2120" y="4267080"/>
            <a:ext cx="7467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2438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467840" cy="1295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81680" y="3886200"/>
            <a:ext cx="152424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467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7467480" cy="2667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467480" cy="2666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705720" y="5638680"/>
            <a:ext cx="1523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7467480" cy="1197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467480" cy="2438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62120" y="4343400"/>
            <a:ext cx="7467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7467480" cy="949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467480" cy="2438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7467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7467480" cy="838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467480" cy="2438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705720" y="3581280"/>
            <a:ext cx="1523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62120" y="3962520"/>
            <a:ext cx="7467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162920" cy="3521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43000" y="4343400"/>
            <a:ext cx="7162920" cy="1447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52680" y="4648320"/>
            <a:ext cx="48769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17524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* is the same in both formula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1676520"/>
            <a:ext cx="426744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248520" cy="1882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95280" y="1066680"/>
            <a:ext cx="6248520" cy="838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981080" y="3733920"/>
            <a:ext cx="5562720" cy="1904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95280" y="3733920"/>
            <a:ext cx="68580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3581280"/>
            <a:ext cx="3049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0" y="4876920"/>
            <a:ext cx="990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96440" cy="5790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81480" y="4800600"/>
            <a:ext cx="3200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33:13Z</dcterms:modified>
  <cp:revision>212</cp:revision>
  <dc:subject/>
  <dc:title>Slide 1</dc:title>
</cp:coreProperties>
</file>